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F25-D97E-4CED-B3DC-77BA6638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A3B-DC07-48C6-9A54-377F689F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0B3-F531-448D-86F2-2C0078F0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63F4-ED2E-4DDC-8DA5-608CB302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561-67EA-4B1F-BE89-4092C831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A87-3A43-4D0F-8BF7-8EAD3A40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E84B-4626-466C-8636-0CE20028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D79-B082-4C2B-8118-AFD27703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1DB-E10D-4E2B-B323-F029393C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9D0-A84C-4D8E-AE43-98D7202F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EF6-297C-44E8-9B31-754941A6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04B-3E03-4EA8-A370-1BE5BDDE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4DB0-3B9D-4E46-AB02-A9D527023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lip0002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22860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46483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Madness and Civi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800600" cy="4776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562720" y="4572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9: The Birth of the Asy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1752480"/>
            <a:ext cx="29718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ques/practices of early psychiatric reformers: Tuke, Pi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tions contrast with perceived message of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cault and “antipsychiatr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GoyaMadhouse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001000" cy="4778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90920" y="6172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ya – “The Madhous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0492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ding Chapter and Beyo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lationship between art and ma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1066680"/>
            <a:ext cx="815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t of the mentally il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sider Art, Intuitive Art, Art Br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demonstrates an unawareness of conventional notions of technique and aesthe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s outside of lineage, contemporary commun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s unique perspective, condition of art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Willem%20Van%20Genk%201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154400" cy="5867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29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em Van Gen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Willem%20Van%20Genk%202" descr=""/>
          <p:cNvPicPr/>
          <p:nvPr/>
        </p:nvPicPr>
        <p:blipFill>
          <a:blip r:embed="rId1"/>
          <a:stretch/>
        </p:blipFill>
        <p:spPr>
          <a:xfrm>
            <a:off x="1143000" y="0"/>
            <a:ext cx="6629400" cy="5877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6720" y="6095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em Van Gen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olfli1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5775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038480" y="6172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lfli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Wolfli%203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4534200" cy="6264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808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lfli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rancis%20Palanc%20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759440" cy="4910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81280" y="5715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is Pala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Baya%201" descr=""/>
          <p:cNvPicPr/>
          <p:nvPr/>
        </p:nvPicPr>
        <p:blipFill>
          <a:blip r:embed="rId1"/>
          <a:stretch/>
        </p:blipFill>
        <p:spPr>
          <a:xfrm>
            <a:off x="3581280" y="380880"/>
            <a:ext cx="4149720" cy="5989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19320" y="1219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Gaston%20teuscher%201" descr=""/>
          <p:cNvPicPr/>
          <p:nvPr/>
        </p:nvPicPr>
        <p:blipFill>
          <a:blip r:embed="rId1"/>
          <a:stretch/>
        </p:blipFill>
        <p:spPr>
          <a:xfrm>
            <a:off x="3121200" y="380880"/>
            <a:ext cx="5362560" cy="609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1905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ton Teus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2520" y="6091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1 Stultifera Nav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114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 to histori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d such ships ex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ce to argument of tex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py%20of%20BoschShipOfFools" descr=""/>
          <p:cNvPicPr/>
          <p:nvPr/>
        </p:nvPicPr>
        <p:blipFill>
          <a:blip r:embed="rId1"/>
          <a:stretch/>
        </p:blipFill>
        <p:spPr>
          <a:xfrm>
            <a:off x="666720" y="304920"/>
            <a:ext cx="2984400" cy="579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172200"/>
            <a:ext cx="33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sch - The Ship of F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Madge%20Gill" descr=""/>
          <p:cNvPicPr/>
          <p:nvPr/>
        </p:nvPicPr>
        <p:blipFill>
          <a:blip r:embed="rId1"/>
          <a:stretch/>
        </p:blipFill>
        <p:spPr>
          <a:xfrm>
            <a:off x="3429000" y="533520"/>
            <a:ext cx="4826160" cy="5715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5800" y="16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ge G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Scottie%20Wilson%201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6159240" cy="5715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920" y="1828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ttie Wil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arlo%201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48720" cy="5308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62520" y="6019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arlo%202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96440" cy="54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6019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91440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ness, transgression, and 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ransgress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ring the boundaries of conventional notions of morality and truth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amples in litera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aille, Genet, Artaud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Resonates with Fouca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cault writes: “madness has become mans possibility for abolishing both man and the world….it is the last recourse: the end and beginning of everything…it is the ambiguity of chaos and the apocalypse” (F 281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228600"/>
            <a:ext cx="563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cault and Artau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oucault’s thoughts on madness as ‘the end and beginning of everything’ resonate with Artaud’s writing, particularly his essay, “No More Masterpieces,” in which Artaud decl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384280"/>
            <a:ext cx="5410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verence for the past works of art serves to imprison the art of today and the art to co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he phenomena of masterpieces alienates art from the public via its ‘superstitious’ reverence for tex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he public finds a given masterpiece irrelevant and incomprehensible, it is not the fault of the public, but the fault of the work itself and system in which such works are def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99072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Foucault and Artaud see conventional notions of psychology as an obstruction to the potential of art and crea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aud holds psychology accountable for “..working relentlessly to reduce the unknown to the known,” (Artaud 7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rtaud declares theater must go beyond psychological concerns such as woes over social careerism, money and lov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06668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Foucault and Artaud see the dislocating experience of madness as potentially productive, capable of yielding unique insights.  Artaud seeks an art which mirrors the experience of mad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rtaud proposes a theater which confronts its audience in visceral and disorientating way, a theater which he likens to lava in a volcanic explos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8380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ness as inspiration: a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fael Alberti “Concerning the Ange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ckgrou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ng the “generation of 27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ten during a depressive episode brought on by a failed love affair and the suicide of a frien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8862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lberti’s description of the writ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4572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lberti discusses ways in which his mental state dictated his writing style and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0"/>
            <a:ext cx="52578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l or good angel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’t know whi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rled you into my sou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el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furniture or sleeping spac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a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epidly, the wind wo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ll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nest panes of g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mpness.  Chains.  C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 gues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sk yo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leave the hou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evil, which cruel ang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want to rent it agai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5029200"/>
            <a:ext cx="3657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“Concerning the Angels,” by Rafael Alberti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UINE_BICETRE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962160" cy="4113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5638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ce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28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2: The Great Con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600200"/>
            <a:ext cx="4191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ing of madness, treatment of mad shif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ness is related to idlene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madness becomes an economic and moral issu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 it requires punish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ishment is informed by opportunities for economic exploitation/advantage, moral condemnation, and religious ideas (the mad are cast as the Falle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morality via economic issues has lasting affects on treatment of mad and the relationship between mad and socie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1219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cal Period Be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3520" y="68580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cluding Thou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7524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Foucault’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ness and Civ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to Library Science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971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s to nature of classification in general, specifical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373392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tential for cultural perspective and/or cultural bias to inform the ways in which knowledge or information is classified, structured, limited, and interacted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962520" cy="3386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4876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petri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85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3: The Ins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905120"/>
            <a:ext cx="38102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losing of people mirrors enclosure of 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 lack what is most human to classical mind – reas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s can be treated as anim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foucault3" descr=""/>
          <p:cNvPicPr/>
          <p:nvPr/>
        </p:nvPicPr>
        <p:blipFill>
          <a:blip r:embed="rId1"/>
          <a:stretch/>
        </p:blipFill>
        <p:spPr>
          <a:xfrm>
            <a:off x="838080" y="571680"/>
            <a:ext cx="3505320" cy="4914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95680" y="6094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4: Passion and Deli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 Fouc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2362320"/>
            <a:ext cx="4191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d often demonstrate unique use of language and logic which has the potential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boundaries of language and log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ort language and logic in unique way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 its own unique logic and tru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1600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n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, and languag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810240" cy="5943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267080" y="533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5: Aspects of Ma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1905120"/>
            <a:ext cx="3886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ion from moral to med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ors and common s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mersion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4495680" cy="3992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95280" y="5181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6: Doctors and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209680"/>
            <a:ext cx="4191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theless, new approach is still rooted in religious notions of punishment and redempti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e focuses on the bodies of the m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cure recalls bapt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ures:  deliberately inflected skin disease, bleedings, baths, and purges, theatrical represent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121932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ft towards more humane, scientific approach to treat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029200" cy="5003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2388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quis De S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533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7: The Great F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1600200"/>
            <a:ext cx="2666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cault returns to literar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entury fear of conta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erot, DeSade, Holderlin, Nerval, Nietzs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GoyaSleepReason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1004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ya – “The Sleep of R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5335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8: The New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2362320"/>
            <a:ext cx="4800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ians, theorists pro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nement be reduced to those who are a danger to themselves and socie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ocation of patients from jails to hospi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hospitals to treat the mad do not yet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16002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ntury, calls for reform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4:19:56Z</dcterms:created>
  <dc:creator> </dc:creator>
  <dc:description/>
  <dc:language>en-US</dc:language>
  <cp:lastModifiedBy> </cp:lastModifiedBy>
  <dcterms:modified xsi:type="dcterms:W3CDTF">2004-10-25T14:07:35Z</dcterms:modified>
  <cp:revision>12</cp:revision>
  <dc:subject/>
  <dc:title>PowerPoint Presentation</dc:title>
</cp:coreProperties>
</file>